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5367-D023-40C3-A0A1-95C18D9405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ности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даптации первоклассников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CE98-DB04-468D-AAB4-A563122B1C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709C-1A6D-4F83-A225-18FA92CF59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сколько советов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83BE-25E1-4C8B-A498-6EC3937CE1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815B-B1F3-4F16-BA54-CD72883686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8FE7-A40D-439E-A933-4184D84328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F86C-A1F7-4ECD-9F6C-FE7E616B62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636C-0AC7-423E-8E90-32AACBD499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Bookman Old Style"/>
              </a:rPr>
              <a:t>Эпигра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как если бы от э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зави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Ваша жизнь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Кью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2369-35B8-45F0-B197-43DFBFFE40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5FEC-D59F-41A7-8888-AFCEA2FB44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Физи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A6CE-0DBE-4D07-BCA2-EDB3E7DF0A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31CF-312F-4B41-B1FD-03FD1D4538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заимоотношения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с ребенком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90BE-50B5-4E5B-A1F1-36AEF5BBC6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Шкала Общ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690F-3E36-4116-B22E-B05E5B1D51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а, которые помогут ребёнку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общ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372A-0FB8-425B-9B8D-C6E5CC01D1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 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74D3-AA96-43D4-B802-DACD873CCE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06B-DCAC-44DC-8D96-C257ED9B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731-0BED-45E2-BE61-3E9BC2BC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8BE6E-9172-4716-9CFD-D19610B8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445CF-91E4-410D-9E5C-EFEDFA80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682F1-3F91-42CF-AC61-6CCB856A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86B66-ECC0-4A05-8485-A1816030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73F8F-BD27-4B74-B61F-85024EB8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1BD9C-8F73-4857-9587-09B3179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B9F0A-C5D6-4539-A20F-0042A512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767E1-16A4-4FB1-BC23-CF5495BC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B74F6-D519-47B2-85C6-FCCA9381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8A0-1EF5-4CF9-9B65-40847121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31C-AC51-442F-ACF1-23E6081B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78A6-0BDB-4012-8BAD-626C3071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6943-3A95-4DE3-B34F-534131E2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58A3-CB8D-4086-88ED-2CD81FF9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BD85-3590-45AA-8372-0D7894AF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9195-FF46-4F72-93FD-1496396B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D29D-FB66-4ED0-BFE6-0845F5E0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34C5-ACCF-40F3-B586-DE46918D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DFE-115D-4507-8229-CB5846BF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515E-9AFB-4841-99D7-38A8A7D9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4CEA-9C47-4471-A9CE-92DD576A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B8C2-6266-4650-8DC3-D34FE208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C345-AF68-4032-8A58-20966D86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2BCE-79D4-4069-B90F-27D474B3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ED8E0-D6EB-44C6-85D9-3BAE5B54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E2E6-F3F6-4C23-AD41-81F1EED0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BEA3C-769A-4643-9F41-0E17BD31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AAEF-1F55-489D-82B1-4A35EC2B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9C69-91C0-49D4-A7A7-7A7D5305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78F-61F4-4C8D-840A-342FA3CB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8A8E3-451F-4B75-9311-B9A52A5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183B-2FAC-4F1C-8065-E6B3A0E7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24B9E-2CD7-444B-9AD4-F3A5681B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D971-E24D-401B-8C28-58FB324B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FCF2-379C-4963-803A-FA52D1DF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8F4C-131B-4BF4-8F8D-79A92476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25F1-F52F-4345-9D1A-E5C33038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53124-C7FD-43CF-BDC9-EDB8962D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7BF7-3E25-4D5D-8451-C5E00606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8EE9-0E70-482A-9DE9-C23C92BD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1D3-F7D5-4298-8912-71CCC488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AC4AA-C90C-4012-B7B8-7111ED22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72D71-D1F8-49E3-9D15-8767366B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E504B-4CA7-49C4-8A40-79D26C4C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586F-FDD3-4010-8E50-DD9994AE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C57D6-2737-4604-B313-60227ADF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1B4A2-09EF-4E76-9695-4260D8AD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36D2F-392E-4F86-9E93-8D8E1EF2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07B80-9C04-4D47-A978-10987046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3CA2-964E-4CA9-88B9-964D1FF7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9FFDF-5E90-4605-A929-EEB1411F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E97-7F62-4746-9321-BE99DB34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A5FF4-26A7-4AB9-80E7-82365A96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FE490-08C1-4CC0-ABE9-5DB6E46F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6B4B5-4355-4B5B-B530-97942613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32FA2-EDEF-4A32-8097-BE4F705A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F668-A969-4E8A-AE7C-25FE93E2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C7463-A64E-4E91-B8BA-E901FBA9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A42C7-4DA2-49C1-B0DB-7A218D21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FAA2-AEEF-42B3-AA11-1075B975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E7A7C-AD28-4C08-94AF-941E38BC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57D39-518E-4C60-A8AA-C4B116B4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4B1-C3CE-4936-8E5D-F95F9F10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F9BDF-5493-4682-ADC0-C589547D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3A45F-BF2D-4736-95D8-A1B394CC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4544A-483C-4838-B1FE-7AD9D9B9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1F17D-0E54-462D-8F29-E5765674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B2BA3-1E6B-42F4-9CFF-CF3C2A8C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2ED61-6EEA-41A3-B214-FBD15C01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9FB2-7075-470F-AACB-5AD68FB8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5F1B9-2196-4A62-9A1D-F0559F7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B46D1-234E-4EAB-82C0-A380E9FF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81B78-9BED-4703-B5EF-35916AE8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8B9-7952-49BD-B1D6-DA261672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7022F-9485-4E55-8DF0-08A528A9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A4C25-5C0A-4BD2-8738-45B59C73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DB862-B464-44E5-B7A1-1D3B2F9C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745EC-F876-4B78-A912-8F34022F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42EB6-AD98-4B95-96C8-D65531AD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24B7D-E4D2-4CFD-9D1F-8A6AB077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5643B-2D27-4E5E-8E7B-96ACB034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73491-D947-41F9-954A-797EB6B9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55D9C-4B87-44C8-AA04-5FE63B63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02D38-129C-4386-AAC6-C346BB00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9C4-6CEF-426B-8A47-22C158D2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1BF14-19B5-4D16-ABD8-6A654341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EE81-050D-45B7-9F53-A26DEA4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C0EF0-2589-421C-81C8-EE019B41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F4981-E10B-4B61-BC2F-0BFB7E24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84C77-47C1-4773-B09B-6D490B44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C2EFF-C4C7-4579-9FC3-06222D4A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9C612-9E08-4CB6-B826-DB776557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E32CD-7619-48ED-AC65-C16C47E4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0D649-0B32-428B-A692-2B9FB356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39D00-5250-425D-B1E2-6EFA3883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CA0-D95A-4165-BEFA-B2EE7BCE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D9913-6DA1-4BA4-BDA3-46C5737F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FFFE9-882A-458E-A8D4-4E1F8B6F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E2C01-C62E-4294-85E8-0F7DD965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031CA-B30C-4DC1-B975-DBE70AB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6C576-D2D4-4BCC-92F7-901BFF84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1E999-3E5E-41EA-8348-D5FA93E8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E2D98-DA42-418D-B06C-D1805527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465C4-9B64-467B-8EDD-652350DC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38D83-9526-400C-9942-2A6217F1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2CC4E-337E-4A76-95A4-DA032AE0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8024-1837-4BCD-A4CD-D990B7BF149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C581-88A5-4513-8F9A-81282B68852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9E1E-0544-4BD4-BD07-E224B26E5BA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FB2E-8650-4255-9868-5E3F47A166E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9E59-5FD6-43DE-A662-5B43E78166A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D02E-123C-4F4E-8179-92E750F6161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CE58-8AC9-445F-8946-353172207CE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CB51-BC0E-4B81-9154-3C485F87474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939A-C7BF-4973-A7DC-DD5C3B4E8FF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9D9D-A230-46E7-8B99-9B48DBDDFED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1CE2-CBDA-49C0-9511-C83245621CB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294D-CD6C-4A31-8C5E-7223311B6C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9FF6-EBAE-4C42-8318-89911C8A1C3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D407-920A-46D3-AF51-71A65F78142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859A-48A6-4C34-A5A4-6924840892E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7C8A-6100-4C5B-96D2-5C3434A789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AF1D-829D-4F8A-B382-D5350F3AC9C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6C43-491D-4F3F-9FB3-2623602CDD2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84120" y="1000080"/>
            <a:ext cx="9077400" cy="507672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Спасибо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15320" cy="858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как если бы от этог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зависела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Ваша жизнь…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.Кьюб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0012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9120240" cy="51148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35684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62080" y="457200"/>
            <a:ext cx="8862840" cy="927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7140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4:19Z</dcterms:created>
  <dc:creator>Admin</dc:creator>
  <dc:description/>
  <dc:language>en-US</dc:language>
  <cp:lastModifiedBy>LEGION</cp:lastModifiedBy>
  <dcterms:modified xsi:type="dcterms:W3CDTF">2015-01-27T12:02:27Z</dcterms:modified>
  <cp:revision>19</cp:revision>
  <dc:subject/>
  <dc:title>Трудности адаптации первоклассников в школе</dc:title>
</cp:coreProperties>
</file>